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1.png" ContentType="image/png"/>
  <Override PartName="/ppt/media/image26.tif" ContentType="image/tiff"/>
  <Override PartName="/ppt/media/image25.tif" ContentType="image/tiff"/>
  <Override PartName="/ppt/media/image17.png" ContentType="image/png"/>
  <Override PartName="/ppt/media/image24.tif" ContentType="image/tiff"/>
  <Override PartName="/ppt/media/image16.png" ContentType="image/png"/>
  <Override PartName="/ppt/media/image23.tif" ContentType="image/tiff"/>
  <Override PartName="/ppt/media/image1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20.png" ContentType="image/png"/>
  <Override PartName="/ppt/media/image14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CBBA7-E155-4055-A523-6E7447C5FB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1FA7E-9EF5-40BF-BB3F-065B99A0A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3B03B4E-28F5-4576-99D1-1A5AC9491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49E63BB-2CDB-422C-BCDE-0BCD43D52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D4A5DDF-B1DC-4B70-B9A6-4CD96B9F4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6494DC4-2B4E-4403-B0E7-6053885C6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370F541-DF1F-454D-B12C-721E78E6E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F164333-F5D3-4C0B-9A62-70520B386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0812647-77BC-43FF-AA06-CE52A18FF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B438B8F-7689-4464-AE28-BF31D978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96F4CAA-A993-4F9E-B41A-DA6E1D8B76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5C676-F3E9-4196-BA91-C74505FD7E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42DDA-8D33-420C-827F-2EDDC2D1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775F01-4352-466B-9E0B-32EF69F1A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5DE27-EA67-4E6A-B216-4A7C31FC3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0A30B0-D29C-4A12-83A0-5AF59ED8A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E3619-DB98-4A5E-AFBE-11D14AC6C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CEC5B9-42F2-4FA2-9412-61E6CA865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3C7137-7624-4D06-8432-55621FB77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6B26EA-0A2F-4EEF-8E6A-7693EEA0F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B28C1F-BB70-48B1-980E-D76B50083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FFBE2-8D76-46E4-B9A2-43FEA4F12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18E99C-A78E-4F27-9FBD-29BE6D14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AB522-3DCC-4F24-99DD-1E850C036F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DA3482-0C35-4505-9C53-12D90B9825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5670A7-16DE-42D2-913F-05C508E280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88D37B-E11A-430C-89F1-94226CC97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A86346-895A-4782-8133-4F1EF207F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5F6AB0-179C-4A6F-A222-C39DCE179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8DE2B0-9B01-430A-B859-26D25D9AA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F3D0FA-B9AE-492E-A112-F75E33E9C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ABCA50-7F65-4B21-B921-14AA98FF9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460473-D733-49DF-82AE-B38B799FB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FFAB33-DE81-48F8-A750-C3842C22A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7F0AAE-D0F1-42F5-B96A-7A7C805CC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D5C69F-636C-4462-AA05-5489FC0F5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3D4EAF-1752-481A-8B0D-84DA7C46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08FAA7-DCB2-47DF-9408-D8E574C772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F554B7-D81E-4808-B914-0BB1B8DDE2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4CA289-3B8D-4BC9-838C-A289EAA86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0F5425-C554-4221-82E7-E32BCE44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49A5F0-4743-4056-841E-F158F7237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3E4FA9-0234-45B8-8AC2-C11C9639A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5D8ADD-AFDB-4DD1-AAAF-9A19ACF5B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4E3F83-5F21-44C7-B40C-E646590B0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EE7DB5-4BB0-4A76-903E-14981E25B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838BA2-6CB8-4415-B726-56CF3C130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C50A43-6764-48D9-AAAD-59F8615A7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0134CC-32C0-45E0-A9E5-52BEED994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F17680-68D3-4520-AE68-CB5FA6C1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FA114A-8082-4270-8944-3FD1ACBF93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E9F393-97CD-49EB-9D4C-4A48939F4C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D1D483-261D-4B3B-9CEA-92FEF10F7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B5A2E3-C62E-4942-9DFF-A76C1C1DF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31D9B0-BAF3-428B-B4CA-D416AC8DF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8C0369-C9E6-4E3C-8018-8F39B8F93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815370-B8A1-451A-83CF-CD1A80B74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FE45A4-7166-4B6E-B0CF-C5088AD85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8709C1-8293-4CD4-8F24-4BA6FB9C7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BDB2AD-1BA1-4D5F-912F-2F6690188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6FBC35-9F5F-4783-B10B-5B2B25348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0C86C0-F308-449E-874B-F39525E1E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EB33FE-C7F5-4BC9-9CD9-5210CFD0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102CF6-DA97-4033-8741-AE080B6476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3AB2E8-4E10-41D7-937F-B304F129D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C8B0EC-D9A5-4AA8-9769-15A24A298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DFD643-49F6-4EF8-BAC2-2D6C6C04E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090EA3-87A4-46D0-9917-6981BEC47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4714F3-641A-4B3D-8C86-0075D19E7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0D79D7-A2B7-4E0B-835D-CA595F8D7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3A2551-A65A-46DE-865C-AAC8D6ADC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9D5172-F428-469B-A394-49D80F4B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9A3BDA-089E-49E1-A121-59AFF0F2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15E9F3-F439-4738-B930-E974AB83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376532-0A53-4720-AA50-FA7F7A002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118CF0-499D-42B6-8F03-AE585D3D4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20E44A-B473-4659-A52F-DA3191433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9161D7-7B13-47D1-BD9C-F9F985519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B90CD7-7CE0-4835-BDEA-054D9176E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9579EF-A947-405B-AB2D-5F652B44C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D8B029-B4D3-450B-A751-BE0AEFD78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1A26F9-2E13-4099-9CD2-486DB2FDC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E687A4-BABC-4F87-8FCC-A8DD424E6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B6BB5C-6E05-4DA3-B185-93571D336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BB6599-55DE-49FC-8F8E-87DEAC54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8592F4-ACCB-48AB-B622-DE3D4F93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F1646B-EA03-45A0-93F8-39E254A8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C304D0-5D84-4BF5-AD84-42C86456A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6087D1-A667-4B42-9FCF-3C25300B9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738FB1-156E-4B49-A082-5824E816A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B496CE-993A-4012-9354-0B1A1CB76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24A353-351A-4C97-B07D-759D54623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3772A8-10FD-444D-BC85-5AB6E5735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407F67-73A8-497D-A702-69BEA10E7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FEE066-019D-4782-8443-FD5543FBC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F6BD16-8105-4113-A932-F794C2388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3B04A6-F62B-455E-A5AF-0D3780691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83A2C1-3032-4C23-BAA4-3D76F83D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D6AA56-32E7-485F-ACDA-0096343D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9BF0C8-FF00-4E1B-ACB3-332C20D7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01A2E7-52C9-41F7-B17D-EF2F99BC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D99010-35DB-4CEA-BC0F-8C2519447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DC3C0B-09BA-4E56-BC9B-BB7E0ECA1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486CF9-3D94-4AEB-8C01-B3AF76FAD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F09B08-C09B-43B2-B1F2-CC0D62A0C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72A9BB-2B80-4BF5-9364-82AAB3508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03A99C-103F-45EA-8F18-C178BD82F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359DC2-87B8-460E-97FF-73B96E230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C406B2-12B6-46D3-ACF1-0BAA36CB5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4DCE8F-1E31-4A50-BC34-5F224A75A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A3E13C-EE7A-4E5D-B877-E381F5AA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07BAE-EDDF-441D-9657-756D00BAA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96E045-ADEA-49F1-8C37-2B2F5398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445D20-4B7A-4AC1-B291-1B70B7B8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2E9332-8052-459C-BACE-4C5A8D2E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17293A-9AEB-434F-9893-89E6660B6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EC5F98-ACA9-4761-B8D7-2DC1BB00C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8D7517-9BD1-463D-9B64-A27ADEF71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D091F6-CE25-4495-B4D8-DA64C15F1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C70920-EC9D-469C-86D3-C7C38F3B3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70E901-6C98-441C-90D6-E766E4367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7A8CA7-53A8-426B-A529-F6583699A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557834-2EBF-4D05-95EF-74E583E21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10E76A-2579-495E-903A-C8A25E18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150665-1B46-46E1-8CC0-7CE2AD959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EC223D-6FF3-4F1A-8BA7-FD3A5BB8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67FA36-D368-44E8-938E-F4AB5F5C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09E6D7-D298-446A-9758-9346758B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7E4AF9-62C9-467A-AEE5-465DD9E11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7E4F6C-BE20-44B5-92D3-6A5F6B23A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CDAF1D-2422-4131-A2F2-637D7C89E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D57EAC-3B56-4EFB-A4D9-E4707EFB0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81E44E-AEFC-42D5-BBA0-DEB87B6BF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111D7D-F1D1-4A77-9867-4434A762E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3BCC6A-53A9-4241-BFC2-AC5CDC1DB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880F76-0749-4D5F-B53A-5291904F4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848F00-E99A-4EF1-8B50-0E9C0B4F5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D2C1F0-AFCB-4B71-84AE-DB99D0D68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AB9561-6310-41B4-963F-2A7E4FB2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B4002B-95A5-45FD-863A-67D3F62D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A3E3BD-768E-47F5-9EA9-F8F99F38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D2A7F0-B366-4B36-B073-550C3B3BD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F52446-342B-441A-874C-DEB89993F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83FD00-D8EA-4696-B9EA-507CC0D09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8856FD-8165-4613-B5A6-B001116BA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9A313D-6FF8-4713-A846-D9E579D2D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08A8EF-C4CA-4B3B-BD13-119190935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A452CE-5B8B-4036-938C-1A3806747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9C2E57-CAA1-41C9-9D94-84C192788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DA3078-B7CD-4915-9BDF-7F3581628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3DD5E6-D2FE-4F39-995C-D19EE0214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9715B7-92AE-4DC0-A3E6-50B56AB9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CF0298-2E3B-4676-BD77-248A9893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DAF1A5-33B1-42F5-85A1-F64379CB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84AC74-4399-4EAE-B81C-AA4A05446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9D0DC3-EA2C-4639-B7C3-93D3CE955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CDAB3E-E9DA-42C6-BC35-862F156CF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623B6D-46D9-4EB2-86C3-DABB79382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C61230-E397-4DAA-8E9A-88E51E62E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ADE5D6-E3F6-4DFB-BA7D-08A0492D3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466462-0D84-4343-A752-B43943A23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EC44B9-0CFF-47B9-836B-3440890E9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A1FBAA-A5F6-4BD3-8025-38319E324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A09248-18DA-4A9A-AAA7-664DC34AF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83F510-4655-4D74-9397-4DC8DACB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B5AD60-0E6E-401E-98D8-32604EB0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083B5C-E119-4A58-AB61-CA91F5BA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77060B-3844-4DC5-A974-48CBA47A7A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B16902-42B0-4EEB-9BF6-8D25C7A6A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CD3A0E-0831-4B09-AF7E-CCD128B45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C73182-3583-408F-BD20-BB858F22A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58EAD8-6CBE-4A1F-A839-BE45CECBB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7FDCAD-266C-4AE4-B1FD-65AD7A12C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E8BA54-E174-4257-AF69-123722134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A2711D-05EB-4041-A5C1-21CA4BBEF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A485B7-71D1-4D41-857E-A0B21DBE7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DB07CA-7626-41A6-935A-443B6899D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A3E11C-9A65-47E0-B8EF-40ACF941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C9447F-A123-476A-AF78-ED9FADC2F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585A38-467D-4B3D-B78E-700E1D3D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F01428-8651-4DAF-A7D8-3E30186C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60B819-B614-44CA-8A0E-CF931F98A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571AA1-C239-473D-820D-8BC125C02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18E5E6-D709-479B-8BC0-2120147DE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494BC3-1CC8-4273-A6B9-B61091954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6AE3D4-0DE2-4806-8670-2EBB0B323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FD7004-C538-4396-BC8F-181191AFB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2716C6-BC09-4BAB-999D-FB2D769BD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A3DE43-EEDA-439E-8086-7C7B47115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569C81-E50D-45C1-B362-6F08EF250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A2B51D-E893-4979-ABFA-26874551C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845A80-94AF-47F4-A1F5-63771370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301B35-9745-4475-ABB3-0A166A305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A5705F-D4D5-42BB-99D4-ED07F806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6EC158-2602-4286-A57D-DE1C4AEEB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9D41D5-5C44-47B6-B106-D81FD9D90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4B1453-5E9F-4038-9BFA-E40C15644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69B07E-E6A4-4C3C-ADBA-EB232CED3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D4C58B-5C55-44D8-9D6C-27DEADEB8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0C26D7-2CE8-4D81-99EE-7D89A478F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6D133B-D9C6-4AC3-906D-BE39CF907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CC3627-B65A-4EA9-BF00-3636C2405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FB2714-DCE2-4434-91FC-CF11CD837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D163A2-810C-4BAF-97E0-8575ABC9B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77B862-8248-4A0B-A851-EA679C74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7240EA-2057-4B42-867D-0A1D54FC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7874EB-36BE-499C-8439-2AC099C9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0A8952-89B1-4D0B-8C75-76B7471D5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5E4976-B163-4694-A3F5-501662507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C51F85-B34B-4AFC-847E-97B9BEA28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ED04D8-AF2F-4D15-896A-812846B11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B5358-758D-4B92-8EA4-C07DBB690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8F2D11-FD15-49C1-B6B5-D3E09A168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DA9AD5-6B19-4CCB-B296-98D1B29BA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2C89ED-E05C-45A9-9552-07BCD33AC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61FFE1-1669-4B38-B385-72A5BD55D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392F1B-A929-48CE-BDFE-F278A4116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F99FB0-8A8D-4FA6-97B8-F4C00B6D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DFD4DC-F911-43AF-99A5-C6AA0FFA35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3192D-9198-4DC6-A544-2DFA0C815B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779F5-05D5-47EB-B003-09175AE26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6A33A-4F1B-4719-872C-321150434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D18A4-344F-4D74-9C0C-7FDAA4477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ABCFB-2D13-4A04-B706-481DC8848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B4BD4-BB4B-480E-B0F4-CC6AD0BD9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54835-BE25-4D68-8C37-E8787158B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3C09E-ECA9-4AB5-8F1E-3B219D500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4412E-3A05-429A-AAC9-B6262A0D1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6062C-19FB-4596-9FD4-F79A41EA7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7960D-0858-4076-BD28-94BC64934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A0821-99CA-4217-B154-AA66703D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FE4BF-88C9-44AF-9623-EEE8FCB001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9A2E4F-C163-4606-9CED-136E973499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8F8C9-D660-47BC-8CDE-88D6A9063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00C6DF-5A38-460D-8174-322972E61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8DF430-CEFB-4D40-AE4C-5B69AFF5A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9A87CC-41D2-423B-9A86-B4A797835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E97910-1868-44C3-964B-3C4DED78C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93509D-CEBB-400C-89A1-FFDB331D1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6418A7-161D-4D59-8FE3-22F3DE448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B39A3D-67FF-4971-9154-AA1D6B02A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1E484C-C9C6-43F8-A3D1-AD1DA7A0C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A9B415-00C2-4D52-B34F-C1D4F907B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DCB52F-2339-4B97-9A7B-34A6B518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F24CF-7649-4517-ADD4-3B1661E99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CFB74D-2727-478E-904A-F92FCDD2C1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BF93CC-194A-478E-A847-EE5FD85F14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7F0F47-CC4B-4EE9-BD11-B10D32210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526F6E-E123-497D-9D46-B9CCF34EE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A7E426-4E13-474F-8FC2-B34D7490B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F7E490-D3AF-49B8-BBBC-30490CF9B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465739-94FE-42E2-9B0A-79CF9C7C6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DD17E8-FCB3-4A0D-BF85-30583AE6E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DBE9A1-78EB-48CB-9EFA-91E30EE5D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3710E8-08E3-4248-87D7-1047C9DF8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F32D1-3D55-4FD9-9F28-D5DAF0B42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B5E3247-09C3-4B13-B64B-46302E27A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7477B95-C07D-4747-ADD2-D176BE42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3AD42B9-065B-4B1B-8766-883E966968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B0F22-9B89-4398-AE00-9627994CE5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D858A-E344-4FA9-967A-6B8A83DCF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CE623-DEEB-4915-B4BB-FCFA1F743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F8813-0BE3-4A64-8882-55D43399F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7D6FE-5205-4E60-A1DE-D007C266A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B5AC0-C48C-4B5E-B977-B9D50391A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6E957A-87B3-4E94-A54E-B079C3AF7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55F1E-98DF-4DFA-BD41-07CA86DC6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F9A99-9643-479A-9307-3B6299DBC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3547D-5055-4211-B743-EE73A92D1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C72F1-F250-4D17-8CF1-D58FC4B64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A372D-1C3A-4C22-AAD2-E7880FD9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1266B3-852A-40F8-B05F-DB2CF434F7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305B12-FF23-4C5E-A022-EB4946EEA7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068ECD-6133-46E3-92CE-37ED7B003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24A8BD-ECA8-45C6-9871-0A508E24D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386C02-F3BF-4EEF-B8A1-D29358667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5773F9-CD14-4ECD-8942-132C116B1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BFB53-326F-44A8-8E97-8185FC69E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0FE0E7-D1ED-4ACD-8A7C-A40B041A9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A38801-30D6-41CB-B0C4-C28AE4D5F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6E43B6-7921-4B58-9B36-74EF00C58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40E6EF-880F-46FE-8433-5F89FE4EE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225517-4681-4B39-8E7D-0483CA363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C97EA0-7E6C-472F-A9C2-25F928F1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915674-402E-4BC9-BB9F-C5D459D0C4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D054543-E0EF-4307-8FFC-289E442377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52477A5-E010-488E-AD20-BD5668E08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359500C-3C85-4B07-B052-0B5C97CF0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4E9CD-30DA-450B-B636-EC91752E9FF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C63F6-43C8-4F85-ACC8-476EC8E973C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98E96-DF1F-4BE2-BCCF-ED71598C8F3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95F1E-D85B-4D08-AB5E-3D4FED250EF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E92E6-B549-40CE-8753-FA1A339BE9B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21A70-F8D6-4B45-B209-494F515A753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1B156-D0E1-4EA3-B5BA-B64602605F1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20B83-497A-4B1D-8769-7D198B6B4FE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FDEE5-EE63-44B8-A463-DCDF909FB36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657DD-4A10-4A9C-944C-C8C6E4BBC32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C2289-E1D6-4309-B346-A2BAC02605E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0EB26-08B8-445A-87A6-B5C090AFB14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728FB-57A1-4AEE-914D-BB8055AAC19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274AA-01B9-4CB3-9BD4-7BFCB0D4DD8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B3F19-CA22-4491-96EE-76AC742655B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63691-8089-45EA-8ABD-766460E915B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9ECD7-A3F8-4897-A13C-47E6033201B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75C59-2DEB-48D4-973B-3DB0B4708D1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E6F3C-8B6C-4AAC-B147-08D3D8E0661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839BF-1761-44E6-B7F6-8C5C7DE6099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350FC-9F81-43F5-BDD8-0EEC7026B66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DE013-214E-4130-AE5D-996AB9C4609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29F3D-822B-4743-A8A0-465D32868A5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E6926-4C89-467D-B07C-45BA59FD626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24.tif"/><Relationship Id="rId9" Type="http://schemas.openxmlformats.org/officeDocument/2006/relationships/image" Target="../media/image25.tif"/><Relationship Id="rId10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26.tif"/><Relationship Id="rId9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2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3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23.tif"/><Relationship Id="rId9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6" name=""/>
          <p:cNvGrpSpPr/>
          <p:nvPr/>
        </p:nvGrpSpPr>
        <p:grpSpPr>
          <a:xfrm>
            <a:off x="2284560" y="2448000"/>
            <a:ext cx="4475160" cy="360"/>
            <a:chOff x="2284560" y="2448000"/>
            <a:chExt cx="4475160" cy="360"/>
          </a:xfrm>
        </p:grpSpPr>
        <p:sp>
          <p:nvSpPr>
            <p:cNvPr id="987" name="Line 10"/>
            <p:cNvSpPr/>
            <p:nvPr/>
          </p:nvSpPr>
          <p:spPr>
            <a:xfrm>
              <a:off x="2284560" y="2448000"/>
              <a:ext cx="447516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 txBox="1"/>
            <p:nvPr/>
          </p:nvSpPr>
          <p:spPr>
            <a:xfrm>
              <a:off x="2284560" y="2448000"/>
              <a:ext cx="4475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9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11"/>
          <p:cNvSpPr/>
          <p:nvPr/>
        </p:nvSpPr>
        <p:spPr>
          <a:xfrm>
            <a:off x="2330280" y="18464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11"/>
          <p:cNvSpPr/>
          <p:nvPr/>
        </p:nvSpPr>
        <p:spPr>
          <a:xfrm>
            <a:off x="2336760" y="1879560"/>
            <a:ext cx="357120" cy="5954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9"/>
          <p:cNvSpPr/>
          <p:nvPr/>
        </p:nvSpPr>
        <p:spPr>
          <a:xfrm>
            <a:off x="-1163520" y="1744560"/>
            <a:ext cx="888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6 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位数乘一位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5"/>
          <p:cNvSpPr/>
          <p:nvPr/>
        </p:nvSpPr>
        <p:spPr>
          <a:xfrm>
            <a:off x="2970360" y="2716200"/>
            <a:ext cx="558720" cy="46368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6"/>
          <p:cNvSpPr/>
          <p:nvPr/>
        </p:nvSpPr>
        <p:spPr>
          <a:xfrm>
            <a:off x="2428920" y="2666880"/>
            <a:ext cx="6483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解 决 问 题 （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三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1" name="组合 2"/>
          <p:cNvGrpSpPr/>
          <p:nvPr/>
        </p:nvGrpSpPr>
        <p:grpSpPr>
          <a:xfrm>
            <a:off x="0" y="90360"/>
            <a:ext cx="3244680" cy="525600"/>
            <a:chOff x="0" y="90360"/>
            <a:chExt cx="3244680" cy="525600"/>
          </a:xfrm>
        </p:grpSpPr>
        <p:pic>
          <p:nvPicPr>
            <p:cNvPr id="1132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9036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33" name="组合 4"/>
            <p:cNvGrpSpPr/>
            <p:nvPr/>
          </p:nvGrpSpPr>
          <p:grpSpPr>
            <a:xfrm>
              <a:off x="0" y="186120"/>
              <a:ext cx="429840" cy="271800"/>
              <a:chOff x="0" y="186120"/>
              <a:chExt cx="429840" cy="271800"/>
            </a:xfrm>
          </p:grpSpPr>
          <p:sp>
            <p:nvSpPr>
              <p:cNvPr id="1134" name="椭圆 1"/>
              <p:cNvSpPr/>
              <p:nvPr/>
            </p:nvSpPr>
            <p:spPr>
              <a:xfrm rot="16200000">
                <a:off x="243000" y="34884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5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124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6" name="椭圆 29"/>
              <p:cNvSpPr/>
              <p:nvPr/>
            </p:nvSpPr>
            <p:spPr>
              <a:xfrm rot="16200000">
                <a:off x="243000" y="22284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7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0052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8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286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9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006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0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13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1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8612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42" name="文本框 99"/>
          <p:cNvSpPr/>
          <p:nvPr/>
        </p:nvSpPr>
        <p:spPr>
          <a:xfrm>
            <a:off x="279360" y="870120"/>
            <a:ext cx="47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看图列综合算式计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3" name="图片 1073742916" descr="TBRJ-6A"/>
          <p:cNvPicPr/>
          <p:nvPr/>
        </p:nvPicPr>
        <p:blipFill>
          <a:blip r:embed="rId8"/>
          <a:stretch/>
        </p:blipFill>
        <p:spPr>
          <a:xfrm>
            <a:off x="1104840" y="1550880"/>
            <a:ext cx="1865520" cy="795600"/>
          </a:xfrm>
          <a:prstGeom prst="rect">
            <a:avLst/>
          </a:prstGeom>
          <a:ln w="0">
            <a:noFill/>
          </a:ln>
        </p:spPr>
      </p:pic>
      <p:sp>
        <p:nvSpPr>
          <p:cNvPr id="1144" name="文本框 2"/>
          <p:cNvSpPr/>
          <p:nvPr/>
        </p:nvSpPr>
        <p:spPr>
          <a:xfrm>
            <a:off x="425520" y="1720800"/>
            <a:ext cx="42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文本框 3"/>
          <p:cNvSpPr/>
          <p:nvPr/>
        </p:nvSpPr>
        <p:spPr>
          <a:xfrm>
            <a:off x="542880" y="3892680"/>
            <a:ext cx="42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6" name="图片 1073742917" descr="TBRJ-6B"/>
          <p:cNvPicPr/>
          <p:nvPr/>
        </p:nvPicPr>
        <p:blipFill>
          <a:blip r:embed="rId9"/>
          <a:stretch/>
        </p:blipFill>
        <p:spPr>
          <a:xfrm>
            <a:off x="1104840" y="3787920"/>
            <a:ext cx="2752920" cy="755640"/>
          </a:xfrm>
          <a:prstGeom prst="rect">
            <a:avLst/>
          </a:prstGeom>
          <a:ln w="0">
            <a:noFill/>
          </a:ln>
        </p:spPr>
      </p:pic>
      <p:sp>
        <p:nvSpPr>
          <p:cNvPr id="1147" name="文本框 2"/>
          <p:cNvSpPr/>
          <p:nvPr/>
        </p:nvSpPr>
        <p:spPr>
          <a:xfrm>
            <a:off x="1104840" y="2854440"/>
            <a:ext cx="339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÷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×6=18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（千克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文本框 3"/>
          <p:cNvSpPr/>
          <p:nvPr/>
        </p:nvSpPr>
        <p:spPr>
          <a:xfrm>
            <a:off x="1104840" y="5051520"/>
            <a:ext cx="29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×10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÷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=5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9" name="组合 2"/>
          <p:cNvGrpSpPr/>
          <p:nvPr/>
        </p:nvGrpSpPr>
        <p:grpSpPr>
          <a:xfrm>
            <a:off x="0" y="90360"/>
            <a:ext cx="3244680" cy="525600"/>
            <a:chOff x="0" y="90360"/>
            <a:chExt cx="3244680" cy="525600"/>
          </a:xfrm>
        </p:grpSpPr>
        <p:pic>
          <p:nvPicPr>
            <p:cNvPr id="1150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9036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51" name="组合 4"/>
            <p:cNvGrpSpPr/>
            <p:nvPr/>
          </p:nvGrpSpPr>
          <p:grpSpPr>
            <a:xfrm>
              <a:off x="0" y="186120"/>
              <a:ext cx="429840" cy="271800"/>
              <a:chOff x="0" y="186120"/>
              <a:chExt cx="429840" cy="271800"/>
            </a:xfrm>
          </p:grpSpPr>
          <p:sp>
            <p:nvSpPr>
              <p:cNvPr id="1152" name="椭圆 1"/>
              <p:cNvSpPr/>
              <p:nvPr/>
            </p:nvSpPr>
            <p:spPr>
              <a:xfrm rot="16200000">
                <a:off x="243000" y="34884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53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124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4" name="椭圆 29"/>
              <p:cNvSpPr/>
              <p:nvPr/>
            </p:nvSpPr>
            <p:spPr>
              <a:xfrm rot="16200000">
                <a:off x="243000" y="22284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55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0052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6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286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7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006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8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13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9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8612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60" name="文本框 99"/>
          <p:cNvSpPr/>
          <p:nvPr/>
        </p:nvSpPr>
        <p:spPr>
          <a:xfrm>
            <a:off x="365040" y="1093680"/>
            <a:ext cx="810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同学们排队做操，每行排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，正好排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。如果每行排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，可以排多少行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文本框 2"/>
          <p:cNvSpPr/>
          <p:nvPr/>
        </p:nvSpPr>
        <p:spPr>
          <a:xfrm>
            <a:off x="1936800" y="2732040"/>
            <a:ext cx="27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2×4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÷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8=6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行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文本框 3"/>
          <p:cNvSpPr/>
          <p:nvPr/>
        </p:nvSpPr>
        <p:spPr>
          <a:xfrm>
            <a:off x="1770120" y="3452760"/>
            <a:ext cx="464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答：可以排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6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3" name="组合 2"/>
          <p:cNvGrpSpPr/>
          <p:nvPr/>
        </p:nvGrpSpPr>
        <p:grpSpPr>
          <a:xfrm>
            <a:off x="0" y="90360"/>
            <a:ext cx="3244680" cy="525600"/>
            <a:chOff x="0" y="90360"/>
            <a:chExt cx="3244680" cy="525600"/>
          </a:xfrm>
        </p:grpSpPr>
        <p:pic>
          <p:nvPicPr>
            <p:cNvPr id="1164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9036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65" name="组合 4"/>
            <p:cNvGrpSpPr/>
            <p:nvPr/>
          </p:nvGrpSpPr>
          <p:grpSpPr>
            <a:xfrm>
              <a:off x="0" y="186120"/>
              <a:ext cx="429840" cy="271800"/>
              <a:chOff x="0" y="186120"/>
              <a:chExt cx="429840" cy="271800"/>
            </a:xfrm>
          </p:grpSpPr>
          <p:sp>
            <p:nvSpPr>
              <p:cNvPr id="1166" name="椭圆 1"/>
              <p:cNvSpPr/>
              <p:nvPr/>
            </p:nvSpPr>
            <p:spPr>
              <a:xfrm rot="16200000">
                <a:off x="243000" y="34884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7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124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8" name="椭圆 29"/>
              <p:cNvSpPr/>
              <p:nvPr/>
            </p:nvSpPr>
            <p:spPr>
              <a:xfrm rot="16200000">
                <a:off x="243000" y="22284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9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0052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0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286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1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006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2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13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3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8612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74" name="文本框 2"/>
          <p:cNvSpPr/>
          <p:nvPr/>
        </p:nvSpPr>
        <p:spPr>
          <a:xfrm>
            <a:off x="179280" y="923760"/>
            <a:ext cx="819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、小青拿了一些小棒摆了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三角形，如果用这些小棒摆四边形，可以摆出多少个？（图形的边不能重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5" name="图片 1073742918" descr="TBRJ-7"/>
          <p:cNvPicPr/>
          <p:nvPr/>
        </p:nvPicPr>
        <p:blipFill>
          <a:blip r:embed="rId8"/>
          <a:stretch/>
        </p:blipFill>
        <p:spPr>
          <a:xfrm>
            <a:off x="5456160" y="3209760"/>
            <a:ext cx="2637000" cy="1024200"/>
          </a:xfrm>
          <a:prstGeom prst="rect">
            <a:avLst/>
          </a:prstGeom>
          <a:ln w="0">
            <a:noFill/>
          </a:ln>
        </p:spPr>
      </p:pic>
      <p:sp>
        <p:nvSpPr>
          <p:cNvPr id="1176" name="文本框 3"/>
          <p:cNvSpPr/>
          <p:nvPr/>
        </p:nvSpPr>
        <p:spPr>
          <a:xfrm>
            <a:off x="663480" y="2809800"/>
            <a:ext cx="292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×8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÷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=6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（个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文本框 2"/>
          <p:cNvSpPr/>
          <p:nvPr/>
        </p:nvSpPr>
        <p:spPr>
          <a:xfrm>
            <a:off x="655560" y="3697200"/>
            <a:ext cx="37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答：可以摆出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个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Rectangle 3"/>
          <p:cNvSpPr/>
          <p:nvPr/>
        </p:nvSpPr>
        <p:spPr>
          <a:xfrm>
            <a:off x="395280" y="420552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问题：这个问题熟悉吗？还记得怎样解答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TextBox 4"/>
          <p:cNvSpPr/>
          <p:nvPr/>
        </p:nvSpPr>
        <p:spPr>
          <a:xfrm>
            <a:off x="782640" y="946080"/>
            <a:ext cx="79772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宋体"/>
              </a:rPr>
              <a:t>妈妈买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宋体"/>
              </a:rPr>
              <a:t>个碗用了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宋体"/>
              </a:rPr>
              <a:t>元。如果买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宋体"/>
              </a:rPr>
              <a:t>个同样的碗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宋体"/>
              </a:rPr>
              <a:t>需要多少钱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0" name="Picture 16" descr=""/>
          <p:cNvPicPr/>
          <p:nvPr/>
        </p:nvPicPr>
        <p:blipFill>
          <a:blip r:embed="rId1"/>
          <a:stretch/>
        </p:blipFill>
        <p:spPr>
          <a:xfrm>
            <a:off x="1258920" y="2181240"/>
            <a:ext cx="6480000" cy="1870200"/>
          </a:xfrm>
          <a:prstGeom prst="rect">
            <a:avLst/>
          </a:prstGeom>
          <a:ln w="0">
            <a:noFill/>
          </a:ln>
        </p:spPr>
      </p:pic>
      <p:grpSp>
        <p:nvGrpSpPr>
          <p:cNvPr id="1001" name="组合 2"/>
          <p:cNvGrpSpPr/>
          <p:nvPr/>
        </p:nvGrpSpPr>
        <p:grpSpPr>
          <a:xfrm>
            <a:off x="0" y="90360"/>
            <a:ext cx="3244680" cy="525600"/>
            <a:chOff x="0" y="90360"/>
            <a:chExt cx="3244680" cy="525600"/>
          </a:xfrm>
        </p:grpSpPr>
        <p:pic>
          <p:nvPicPr>
            <p:cNvPr id="1002" name="圆角矩形 3" descr=""/>
            <p:cNvPicPr/>
            <p:nvPr/>
          </p:nvPicPr>
          <p:blipFill>
            <a:blip r:embed="rId2"/>
            <a:stretch/>
          </p:blipFill>
          <p:spPr>
            <a:xfrm>
              <a:off x="150480" y="9036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3" name="组合 4"/>
            <p:cNvGrpSpPr/>
            <p:nvPr/>
          </p:nvGrpSpPr>
          <p:grpSpPr>
            <a:xfrm>
              <a:off x="0" y="186120"/>
              <a:ext cx="429840" cy="271800"/>
              <a:chOff x="0" y="186120"/>
              <a:chExt cx="429840" cy="271800"/>
            </a:xfrm>
          </p:grpSpPr>
          <p:sp>
            <p:nvSpPr>
              <p:cNvPr id="1004" name="椭圆 8"/>
              <p:cNvSpPr/>
              <p:nvPr/>
            </p:nvSpPr>
            <p:spPr>
              <a:xfrm rot="16200000">
                <a:off x="243000" y="34884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5" name="椭圆 9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3124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6" name="椭圆 10"/>
              <p:cNvSpPr/>
              <p:nvPr/>
            </p:nvSpPr>
            <p:spPr>
              <a:xfrm rot="16200000">
                <a:off x="243000" y="22284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7" name="椭圆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218160" y="20052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286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9" name="圆角矩形 1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3006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0" name="圆角矩形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213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1" name="圆角矩形 15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18612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"/>
                            </p:stCondLst>
                            <p:childTnLst>
                              <p:par>
                                <p:cTn id="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组合 2"/>
          <p:cNvGrpSpPr/>
          <p:nvPr/>
        </p:nvGrpSpPr>
        <p:grpSpPr>
          <a:xfrm>
            <a:off x="0" y="90360"/>
            <a:ext cx="3244680" cy="525600"/>
            <a:chOff x="0" y="90360"/>
            <a:chExt cx="3244680" cy="525600"/>
          </a:xfrm>
        </p:grpSpPr>
        <p:pic>
          <p:nvPicPr>
            <p:cNvPr id="1013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9036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14" name="组合 4"/>
            <p:cNvGrpSpPr/>
            <p:nvPr/>
          </p:nvGrpSpPr>
          <p:grpSpPr>
            <a:xfrm>
              <a:off x="0" y="186120"/>
              <a:ext cx="429840" cy="271800"/>
              <a:chOff x="0" y="186120"/>
              <a:chExt cx="429840" cy="271800"/>
            </a:xfrm>
          </p:grpSpPr>
          <p:sp>
            <p:nvSpPr>
              <p:cNvPr id="1015" name="椭圆 1"/>
              <p:cNvSpPr/>
              <p:nvPr/>
            </p:nvSpPr>
            <p:spPr>
              <a:xfrm rot="16200000">
                <a:off x="243000" y="34884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16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124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7" name="椭圆 29"/>
              <p:cNvSpPr/>
              <p:nvPr/>
            </p:nvSpPr>
            <p:spPr>
              <a:xfrm rot="16200000">
                <a:off x="243000" y="22284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18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0052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9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286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0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006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1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13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2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8612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23" name="Rectangle 12"/>
          <p:cNvSpPr/>
          <p:nvPr/>
        </p:nvSpPr>
        <p:spPr>
          <a:xfrm>
            <a:off x="573120" y="725400"/>
            <a:ext cx="8639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妈妈的钱买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元一个的碗，正好可以买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个。用这些钱买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9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元一个的碗，可以买几个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八边形 2"/>
          <p:cNvSpPr/>
          <p:nvPr/>
        </p:nvSpPr>
        <p:spPr>
          <a:xfrm>
            <a:off x="279360" y="808200"/>
            <a:ext cx="514440" cy="517320"/>
          </a:xfrm>
          <a:prstGeom prst="octagon">
            <a:avLst>
              <a:gd name="adj" fmla="val 29287"/>
            </a:avLst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Box 3"/>
          <p:cNvSpPr/>
          <p:nvPr/>
        </p:nvSpPr>
        <p:spPr>
          <a:xfrm>
            <a:off x="573120" y="1909800"/>
            <a:ext cx="3492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6d86a4"/>
                </a:solidFill>
                <a:latin typeface="Arial"/>
                <a:ea typeface="宋体"/>
              </a:rPr>
              <a:t>阅读与理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6" name=""/>
          <p:cNvGraphicFramePr/>
          <p:nvPr/>
        </p:nvGraphicFramePr>
        <p:xfrm>
          <a:off x="1744560" y="4341960"/>
          <a:ext cx="4803840" cy="1828800"/>
        </p:xfrm>
        <a:graphic>
          <a:graphicData uri="http://schemas.openxmlformats.org/drawingml/2006/table">
            <a:tbl>
              <a:tblPr/>
              <a:tblGrid>
                <a:gridCol w="1182600"/>
                <a:gridCol w="3621240"/>
              </a:tblGrid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已知条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妈妈的钱买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6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元一个的碗，正好可以买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6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个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7fbd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所求问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用这些钱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元一个的碗，可以买几个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ff"/>
                    </a:solidFill>
                  </a:tcPr>
                </a:tc>
              </a:tr>
            </a:tbl>
          </a:graphicData>
        </a:graphic>
      </p:graphicFrame>
      <p:pic>
        <p:nvPicPr>
          <p:cNvPr id="1027" name="图片 8201" descr="06"/>
          <p:cNvPicPr/>
          <p:nvPr/>
        </p:nvPicPr>
        <p:blipFill>
          <a:blip r:embed="rId8"/>
          <a:stretch/>
        </p:blipFill>
        <p:spPr>
          <a:xfrm>
            <a:off x="2367000" y="2633760"/>
            <a:ext cx="4181400" cy="143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8" name="组合 2"/>
          <p:cNvGrpSpPr/>
          <p:nvPr/>
        </p:nvGrpSpPr>
        <p:grpSpPr>
          <a:xfrm>
            <a:off x="0" y="90360"/>
            <a:ext cx="3244680" cy="525600"/>
            <a:chOff x="0" y="90360"/>
            <a:chExt cx="3244680" cy="525600"/>
          </a:xfrm>
        </p:grpSpPr>
        <p:pic>
          <p:nvPicPr>
            <p:cNvPr id="1029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9036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0" name="组合 4"/>
            <p:cNvGrpSpPr/>
            <p:nvPr/>
          </p:nvGrpSpPr>
          <p:grpSpPr>
            <a:xfrm>
              <a:off x="0" y="186120"/>
              <a:ext cx="429840" cy="271800"/>
              <a:chOff x="0" y="186120"/>
              <a:chExt cx="429840" cy="271800"/>
            </a:xfrm>
          </p:grpSpPr>
          <p:sp>
            <p:nvSpPr>
              <p:cNvPr id="1031" name="椭圆 1"/>
              <p:cNvSpPr/>
              <p:nvPr/>
            </p:nvSpPr>
            <p:spPr>
              <a:xfrm rot="16200000">
                <a:off x="243000" y="34884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2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124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3" name="椭圆 29"/>
              <p:cNvSpPr/>
              <p:nvPr/>
            </p:nvSpPr>
            <p:spPr>
              <a:xfrm rot="16200000">
                <a:off x="243000" y="22284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0052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286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006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13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8612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39" name="TextBox 3"/>
          <p:cNvSpPr/>
          <p:nvPr/>
        </p:nvSpPr>
        <p:spPr>
          <a:xfrm>
            <a:off x="365040" y="820800"/>
            <a:ext cx="3492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70c0"/>
                </a:solidFill>
                <a:latin typeface="Arial"/>
                <a:ea typeface="宋体"/>
              </a:rPr>
              <a:t>分析与解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0" name="组合 9"/>
          <p:cNvGrpSpPr/>
          <p:nvPr/>
        </p:nvGrpSpPr>
        <p:grpSpPr>
          <a:xfrm>
            <a:off x="1928880" y="3927600"/>
            <a:ext cx="4786200" cy="1714320"/>
            <a:chOff x="1928880" y="3927600"/>
            <a:chExt cx="4786200" cy="1714320"/>
          </a:xfrm>
        </p:grpSpPr>
        <p:sp>
          <p:nvSpPr>
            <p:cNvPr id="1041" name="圆角矩形 9"/>
            <p:cNvSpPr/>
            <p:nvPr/>
          </p:nvSpPr>
          <p:spPr>
            <a:xfrm>
              <a:off x="1928880" y="3927600"/>
              <a:ext cx="4786200" cy="1714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TextBox 4"/>
            <p:cNvSpPr/>
            <p:nvPr/>
          </p:nvSpPr>
          <p:spPr>
            <a:xfrm>
              <a:off x="2000520" y="4269240"/>
              <a:ext cx="235728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6×6=36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元）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36÷9=4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个）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TextBox 4"/>
            <p:cNvSpPr/>
            <p:nvPr/>
          </p:nvSpPr>
          <p:spPr>
            <a:xfrm>
              <a:off x="4643640" y="4021560"/>
              <a:ext cx="1785600" cy="14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6×6÷9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=36÷9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=4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个）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直接连接符 12"/>
            <p:cNvSpPr/>
            <p:nvPr/>
          </p:nvSpPr>
          <p:spPr>
            <a:xfrm>
              <a:off x="4249800" y="3927600"/>
              <a:ext cx="0" cy="1714320"/>
            </a:xfrm>
            <a:prstGeom prst="line">
              <a:avLst/>
            </a:prstGeom>
            <a:ln w="9360">
              <a:solidFill>
                <a:srgbClr val="00b0f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5" name="组合 8"/>
          <p:cNvGrpSpPr/>
          <p:nvPr/>
        </p:nvGrpSpPr>
        <p:grpSpPr>
          <a:xfrm>
            <a:off x="1928880" y="2606760"/>
            <a:ext cx="6195960" cy="1066680"/>
            <a:chOff x="1928880" y="2606760"/>
            <a:chExt cx="6195960" cy="1066680"/>
          </a:xfrm>
        </p:grpSpPr>
        <p:sp>
          <p:nvSpPr>
            <p:cNvPr id="1046" name="AutoShape 27"/>
            <p:cNvSpPr/>
            <p:nvPr/>
          </p:nvSpPr>
          <p:spPr>
            <a:xfrm>
              <a:off x="1928880" y="2783160"/>
              <a:ext cx="4785840" cy="713880"/>
            </a:xfrm>
            <a:prstGeom prst="wedgeRoundRectCallout">
              <a:avLst>
                <a:gd name="adj1" fmla="val 57032"/>
                <a:gd name="adj2" fmla="val 3303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知道了这笔钱有多少，再算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……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7" name="图片 3" descr="6)5][}VZ%@FXJ)FA]TI76$O"/>
            <p:cNvPicPr/>
            <p:nvPr/>
          </p:nvPicPr>
          <p:blipFill>
            <a:blip r:embed="rId8"/>
            <a:stretch/>
          </p:blipFill>
          <p:spPr>
            <a:xfrm>
              <a:off x="7123680" y="2606760"/>
              <a:ext cx="1001160" cy="1066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48" name="组合 6"/>
          <p:cNvGrpSpPr/>
          <p:nvPr/>
        </p:nvGrpSpPr>
        <p:grpSpPr>
          <a:xfrm>
            <a:off x="593640" y="1406520"/>
            <a:ext cx="5214960" cy="1200240"/>
            <a:chOff x="593640" y="1406520"/>
            <a:chExt cx="5214960" cy="1200240"/>
          </a:xfrm>
        </p:grpSpPr>
        <p:sp>
          <p:nvSpPr>
            <p:cNvPr id="1049" name="AutoShape 27"/>
            <p:cNvSpPr/>
            <p:nvPr/>
          </p:nvSpPr>
          <p:spPr>
            <a:xfrm>
              <a:off x="1952280" y="1406520"/>
              <a:ext cx="3856320" cy="856440"/>
            </a:xfrm>
            <a:prstGeom prst="wedgeRoundRectCallout">
              <a:avLst>
                <a:gd name="adj1" fmla="val -56972"/>
                <a:gd name="adj2" fmla="val 3215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1c1c1c"/>
                  </a:solidFill>
                  <a:latin typeface="宋体"/>
                  <a:ea typeface="宋体"/>
                </a:rPr>
                <a:t>根据</a:t>
              </a:r>
              <a:r>
                <a:rPr b="0" lang="en-US" sz="2500" spc="-1" strike="noStrike">
                  <a:solidFill>
                    <a:srgbClr val="1c1c1c"/>
                  </a:solidFill>
                  <a:latin typeface="宋体"/>
                </a:rPr>
                <a:t>6</a:t>
              </a:r>
              <a:r>
                <a:rPr b="0" lang="zh-CN" sz="2500" spc="-1" strike="noStrike">
                  <a:solidFill>
                    <a:srgbClr val="1c1c1c"/>
                  </a:solidFill>
                  <a:latin typeface="宋体"/>
                  <a:ea typeface="宋体"/>
                </a:rPr>
                <a:t>元一个的碗可以买</a:t>
              </a:r>
              <a:r>
                <a:rPr b="0" lang="en-US" sz="2500" spc="-1" strike="noStrike">
                  <a:solidFill>
                    <a:srgbClr val="1c1c1c"/>
                  </a:solidFill>
                  <a:latin typeface="宋体"/>
                </a:rPr>
                <a:t>6</a:t>
              </a:r>
              <a:r>
                <a:rPr b="0" lang="zh-CN" sz="2500" spc="-1" strike="noStrike">
                  <a:solidFill>
                    <a:srgbClr val="1c1c1c"/>
                  </a:solidFill>
                  <a:latin typeface="宋体"/>
                  <a:ea typeface="宋体"/>
                </a:rPr>
                <a:t>个，可以算出总价钱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0" name="图片 4" descr="]@P`{@U$K{A7A$9804YYMFT"/>
            <p:cNvPicPr/>
            <p:nvPr/>
          </p:nvPicPr>
          <p:blipFill>
            <a:blip r:embed="rId9"/>
            <a:stretch/>
          </p:blipFill>
          <p:spPr>
            <a:xfrm>
              <a:off x="593640" y="1406520"/>
              <a:ext cx="945360" cy="12002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1" name="组合 2"/>
          <p:cNvGrpSpPr/>
          <p:nvPr/>
        </p:nvGrpSpPr>
        <p:grpSpPr>
          <a:xfrm>
            <a:off x="0" y="90360"/>
            <a:ext cx="3244680" cy="525600"/>
            <a:chOff x="0" y="90360"/>
            <a:chExt cx="3244680" cy="525600"/>
          </a:xfrm>
        </p:grpSpPr>
        <p:pic>
          <p:nvPicPr>
            <p:cNvPr id="1052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9036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53" name="组合 4"/>
            <p:cNvGrpSpPr/>
            <p:nvPr/>
          </p:nvGrpSpPr>
          <p:grpSpPr>
            <a:xfrm>
              <a:off x="0" y="186120"/>
              <a:ext cx="429840" cy="271800"/>
              <a:chOff x="0" y="186120"/>
              <a:chExt cx="429840" cy="271800"/>
            </a:xfrm>
          </p:grpSpPr>
          <p:sp>
            <p:nvSpPr>
              <p:cNvPr id="1054" name="椭圆 1"/>
              <p:cNvSpPr/>
              <p:nvPr/>
            </p:nvSpPr>
            <p:spPr>
              <a:xfrm rot="16200000">
                <a:off x="243000" y="34884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5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124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6" name="椭圆 29"/>
              <p:cNvSpPr/>
              <p:nvPr/>
            </p:nvSpPr>
            <p:spPr>
              <a:xfrm rot="16200000">
                <a:off x="243000" y="22284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7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0052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8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286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9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006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0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13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1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8612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62" name="Rectangle 3"/>
          <p:cNvSpPr/>
          <p:nvPr/>
        </p:nvSpPr>
        <p:spPr>
          <a:xfrm>
            <a:off x="-98280" y="451440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问题：观察我们研究的这两个实际问题，你有什么想对大家说的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TextBox 4"/>
          <p:cNvSpPr/>
          <p:nvPr/>
        </p:nvSpPr>
        <p:spPr>
          <a:xfrm>
            <a:off x="169920" y="1440000"/>
            <a:ext cx="39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妈妈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个碗用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元。如果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个同样的碗，需要多少钱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18"/>
          <p:cNvSpPr/>
          <p:nvPr/>
        </p:nvSpPr>
        <p:spPr>
          <a:xfrm>
            <a:off x="4363920" y="1440000"/>
            <a:ext cx="452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妈妈的钱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元一个的碗，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好可以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个。用这些钱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元一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的碗，可以买几个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Line 20"/>
          <p:cNvSpPr/>
          <p:nvPr/>
        </p:nvSpPr>
        <p:spPr>
          <a:xfrm>
            <a:off x="4292640" y="1415880"/>
            <a:ext cx="0" cy="2562480"/>
          </a:xfrm>
          <a:prstGeom prst="line">
            <a:avLst/>
          </a:prstGeom>
          <a:ln w="19080">
            <a:solidFill>
              <a:srgbClr val="3399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7"/>
          <p:cNvSpPr/>
          <p:nvPr/>
        </p:nvSpPr>
        <p:spPr>
          <a:xfrm>
            <a:off x="179280" y="615960"/>
            <a:ext cx="82296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  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宋体"/>
              </a:rPr>
              <a:t>对比感悟，提升认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7" name="Picture 16" descr=""/>
          <p:cNvPicPr/>
          <p:nvPr/>
        </p:nvPicPr>
        <p:blipFill>
          <a:blip r:embed="rId8"/>
          <a:stretch/>
        </p:blipFill>
        <p:spPr>
          <a:xfrm>
            <a:off x="395280" y="2798640"/>
            <a:ext cx="3608280" cy="1041480"/>
          </a:xfrm>
          <a:prstGeom prst="rect">
            <a:avLst/>
          </a:prstGeom>
          <a:ln w="0">
            <a:noFill/>
          </a:ln>
        </p:spPr>
      </p:pic>
      <p:pic>
        <p:nvPicPr>
          <p:cNvPr id="1068" name="图片 9227" descr="06"/>
          <p:cNvPicPr/>
          <p:nvPr/>
        </p:nvPicPr>
        <p:blipFill>
          <a:blip r:embed="rId9"/>
          <a:stretch/>
        </p:blipFill>
        <p:spPr>
          <a:xfrm>
            <a:off x="4861080" y="2751120"/>
            <a:ext cx="3135240" cy="10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9" name="组合 2"/>
          <p:cNvGrpSpPr/>
          <p:nvPr/>
        </p:nvGrpSpPr>
        <p:grpSpPr>
          <a:xfrm>
            <a:off x="0" y="90360"/>
            <a:ext cx="3244680" cy="525600"/>
            <a:chOff x="0" y="90360"/>
            <a:chExt cx="3244680" cy="525600"/>
          </a:xfrm>
        </p:grpSpPr>
        <p:pic>
          <p:nvPicPr>
            <p:cNvPr id="1070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9036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71" name="组合 4"/>
            <p:cNvGrpSpPr/>
            <p:nvPr/>
          </p:nvGrpSpPr>
          <p:grpSpPr>
            <a:xfrm>
              <a:off x="0" y="186120"/>
              <a:ext cx="429840" cy="271800"/>
              <a:chOff x="0" y="186120"/>
              <a:chExt cx="429840" cy="271800"/>
            </a:xfrm>
          </p:grpSpPr>
          <p:sp>
            <p:nvSpPr>
              <p:cNvPr id="1072" name="椭圆 1"/>
              <p:cNvSpPr/>
              <p:nvPr/>
            </p:nvSpPr>
            <p:spPr>
              <a:xfrm rot="16200000">
                <a:off x="243000" y="34884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3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124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4" name="椭圆 29"/>
              <p:cNvSpPr/>
              <p:nvPr/>
            </p:nvSpPr>
            <p:spPr>
              <a:xfrm rot="16200000">
                <a:off x="243000" y="22284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5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0052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6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286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7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006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8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13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9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8612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80" name="TextBox 3"/>
          <p:cNvSpPr/>
          <p:nvPr/>
        </p:nvSpPr>
        <p:spPr>
          <a:xfrm>
            <a:off x="365040" y="784080"/>
            <a:ext cx="3492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81bd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4f81bd"/>
                </a:solidFill>
                <a:latin typeface="宋体"/>
                <a:ea typeface="宋体"/>
              </a:rPr>
              <a:t>回顾与反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Text Box 8"/>
          <p:cNvSpPr/>
          <p:nvPr/>
        </p:nvSpPr>
        <p:spPr>
          <a:xfrm>
            <a:off x="2643120" y="3436920"/>
            <a:ext cx="2357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答：可以买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个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2" name="组合 8"/>
          <p:cNvGrpSpPr/>
          <p:nvPr/>
        </p:nvGrpSpPr>
        <p:grpSpPr>
          <a:xfrm>
            <a:off x="1547640" y="4240080"/>
            <a:ext cx="4424400" cy="1202040"/>
            <a:chOff x="1547640" y="4240080"/>
            <a:chExt cx="4424400" cy="1202040"/>
          </a:xfrm>
        </p:grpSpPr>
        <p:sp>
          <p:nvSpPr>
            <p:cNvPr id="1083" name="AutoShape 27"/>
            <p:cNvSpPr/>
            <p:nvPr/>
          </p:nvSpPr>
          <p:spPr>
            <a:xfrm>
              <a:off x="3013920" y="4429080"/>
              <a:ext cx="2958120" cy="822600"/>
            </a:xfrm>
            <a:prstGeom prst="wedgeRoundRectCallout">
              <a:avLst>
                <a:gd name="adj1" fmla="val -59050"/>
                <a:gd name="adj2" fmla="val 644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你是怎样解答的？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4" name="图片 2" descr="]@P`{@U$K{A7A$9804YYMFT"/>
            <p:cNvPicPr/>
            <p:nvPr/>
          </p:nvPicPr>
          <p:blipFill>
            <a:blip r:embed="rId8"/>
            <a:stretch/>
          </p:blipFill>
          <p:spPr>
            <a:xfrm>
              <a:off x="1547640" y="4240080"/>
              <a:ext cx="1003680" cy="1202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5" name="组合 10"/>
          <p:cNvGrpSpPr/>
          <p:nvPr/>
        </p:nvGrpSpPr>
        <p:grpSpPr>
          <a:xfrm>
            <a:off x="1714680" y="1932120"/>
            <a:ext cx="5259240" cy="1166760"/>
            <a:chOff x="1714680" y="1932120"/>
            <a:chExt cx="5259240" cy="1166760"/>
          </a:xfrm>
        </p:grpSpPr>
        <p:sp>
          <p:nvSpPr>
            <p:cNvPr id="1086" name="AutoShape 27"/>
            <p:cNvSpPr/>
            <p:nvPr/>
          </p:nvSpPr>
          <p:spPr>
            <a:xfrm>
              <a:off x="1714680" y="1932120"/>
              <a:ext cx="3929040" cy="997200"/>
            </a:xfrm>
            <a:prstGeom prst="wedgeRoundRectCallout">
              <a:avLst>
                <a:gd name="adj1" fmla="val 57032"/>
                <a:gd name="adj2" fmla="val 3303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个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9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元的碗和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6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个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6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元的碗，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总价钱一样。正确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7" name="图片 9" descr="6)5][}VZ%@FXJ)FA]TI76$O"/>
            <p:cNvPicPr/>
            <p:nvPr/>
          </p:nvPicPr>
          <p:blipFill>
            <a:blip r:embed="rId9"/>
            <a:stretch/>
          </p:blipFill>
          <p:spPr>
            <a:xfrm>
              <a:off x="5972760" y="2031120"/>
              <a:ext cx="1001160" cy="10677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8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89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90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91" name="椭圆 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2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3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99" name="文本框 2"/>
          <p:cNvSpPr/>
          <p:nvPr/>
        </p:nvSpPr>
        <p:spPr>
          <a:xfrm>
            <a:off x="379440" y="979560"/>
            <a:ext cx="83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用乘、除法解决两步计算的问题（先找出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总量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”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文本框 3"/>
          <p:cNvSpPr/>
          <p:nvPr/>
        </p:nvSpPr>
        <p:spPr>
          <a:xfrm>
            <a:off x="554040" y="1814400"/>
            <a:ext cx="761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解决问题时，要学会分析问题的方法，弄清数量之间的关系（特别是注意题目中没有发生变化的量），再列式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1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02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3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104" name="椭圆 1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5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6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7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8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9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0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1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12" name="TextBox 4"/>
          <p:cNvSpPr/>
          <p:nvPr/>
        </p:nvSpPr>
        <p:spPr>
          <a:xfrm>
            <a:off x="635040" y="981000"/>
            <a:ext cx="727848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小华读一本书，每天读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页，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天可以读完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）如果每天读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页，几天可以读完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）如果他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天读完这本书，平均每天读几页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TextBox 5"/>
          <p:cNvSpPr/>
          <p:nvPr/>
        </p:nvSpPr>
        <p:spPr>
          <a:xfrm>
            <a:off x="1920960" y="2427120"/>
            <a:ext cx="357192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4×6÷8=3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（天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答：</a:t>
            </a: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天可以读完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TextBox 7"/>
          <p:cNvSpPr/>
          <p:nvPr/>
        </p:nvSpPr>
        <p:spPr>
          <a:xfrm>
            <a:off x="2085840" y="4681440"/>
            <a:ext cx="357192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4×6÷3=8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（页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答：平均每天读</a:t>
            </a: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8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页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5" name="组合 2"/>
          <p:cNvGrpSpPr/>
          <p:nvPr/>
        </p:nvGrpSpPr>
        <p:grpSpPr>
          <a:xfrm>
            <a:off x="0" y="90360"/>
            <a:ext cx="3244680" cy="525600"/>
            <a:chOff x="0" y="90360"/>
            <a:chExt cx="3244680" cy="525600"/>
          </a:xfrm>
        </p:grpSpPr>
        <p:pic>
          <p:nvPicPr>
            <p:cNvPr id="1116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9036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17" name="组合 4"/>
            <p:cNvGrpSpPr/>
            <p:nvPr/>
          </p:nvGrpSpPr>
          <p:grpSpPr>
            <a:xfrm>
              <a:off x="0" y="186120"/>
              <a:ext cx="429840" cy="271800"/>
              <a:chOff x="0" y="186120"/>
              <a:chExt cx="429840" cy="271800"/>
            </a:xfrm>
          </p:grpSpPr>
          <p:sp>
            <p:nvSpPr>
              <p:cNvPr id="1118" name="椭圆 1"/>
              <p:cNvSpPr/>
              <p:nvPr/>
            </p:nvSpPr>
            <p:spPr>
              <a:xfrm rot="16200000">
                <a:off x="243000" y="34884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19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124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0" name="椭圆 29"/>
              <p:cNvSpPr/>
              <p:nvPr/>
            </p:nvSpPr>
            <p:spPr>
              <a:xfrm rot="16200000">
                <a:off x="243000" y="22284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21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0052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2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286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3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006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4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13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5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8612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26" name="文本框 99"/>
          <p:cNvSpPr/>
          <p:nvPr/>
        </p:nvSpPr>
        <p:spPr>
          <a:xfrm>
            <a:off x="441360" y="911160"/>
            <a:ext cx="270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拔萝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7" name="图片 -2147482624" descr="TBRJ-5"/>
          <p:cNvPicPr/>
          <p:nvPr/>
        </p:nvPicPr>
        <p:blipFill>
          <a:blip r:embed="rId8"/>
          <a:stretch/>
        </p:blipFill>
        <p:spPr>
          <a:xfrm>
            <a:off x="874800" y="1593720"/>
            <a:ext cx="6397560" cy="1051200"/>
          </a:xfrm>
          <a:prstGeom prst="rect">
            <a:avLst/>
          </a:prstGeom>
          <a:ln w="0">
            <a:noFill/>
          </a:ln>
        </p:spPr>
      </p:pic>
      <p:sp>
        <p:nvSpPr>
          <p:cNvPr id="1128" name="文本框 2"/>
          <p:cNvSpPr/>
          <p:nvPr/>
        </p:nvSpPr>
        <p:spPr>
          <a:xfrm>
            <a:off x="2503440" y="3073320"/>
            <a:ext cx="314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÷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=2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分钟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文本框 3"/>
          <p:cNvSpPr/>
          <p:nvPr/>
        </p:nvSpPr>
        <p:spPr>
          <a:xfrm>
            <a:off x="2503440" y="4083120"/>
            <a:ext cx="25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×9=18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分钟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文本框 4"/>
          <p:cNvSpPr/>
          <p:nvPr/>
        </p:nvSpPr>
        <p:spPr>
          <a:xfrm>
            <a:off x="1720800" y="4995720"/>
            <a:ext cx="48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答：小白兔拔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9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个萝卜需要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18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分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6T11:02:33Z</dcterms:created>
  <dc:creator/>
  <dc:description/>
  <dc:language>en-US</dc:language>
  <cp:lastModifiedBy>万润仪器贸易公司</cp:lastModifiedBy>
  <dcterms:modified xsi:type="dcterms:W3CDTF">2020-08-21T01:27:53Z</dcterms:modified>
  <cp:revision>2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